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15C-92A9-48A5-814B-5D387EF6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8D9-DE02-483B-84CE-491F211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564-104D-4006-8CE4-AE9D458D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DFD-FACC-437B-8B9D-6F489329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3EAD-300D-4954-9C46-7514B602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4B08-34FB-4112-A855-C98DCA83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4A5-71C9-4DD7-959D-4FC20E1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63FA-BF52-4C1E-92E6-1F2A30E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C356-3B9B-4989-8F6A-B764ABE3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5092-FA13-4DAD-BDA9-65A2CA2F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418C-47D8-4100-991F-116D26E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535-1FE7-4AD4-8773-E7B6ED9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B995-E835-4FC6-92D3-3A6C272A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D16-A5B8-44AB-B1F6-376811E7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F93B-674F-4202-8E58-FA62945F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D96-4993-4C64-A581-B9C748F8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A042-4249-4AC1-9AE7-42EF8481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C6A-5774-499E-800B-CD470C6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14C-0FF2-4FD4-821F-2F30523F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07F-50FF-4700-91F6-641288C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037-2F39-4B3B-A73D-5444AC05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AF5-1FCB-4B12-8784-7A1E27F6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A81-FEF9-40AC-9018-F876C842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42B-3E8F-4956-8E7A-116A304B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12AC-0ADD-4F67-B164-F7D140F5DD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D1B-DEE0-4CE8-9034-D2A842BABB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umanasinc.com/webcontent/anisamples/nonmajorsbiology/proteinstructure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006666"/>
                </a:solidFill>
                <a:latin typeface="Comic Sans MS"/>
              </a:rPr>
              <a:t>PROTEINS</a:t>
            </a:r>
            <a:endParaRPr b="0" lang="en-US" sz="7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79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Protein Structur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d1e"/>
                </a:solidFill>
                <a:latin typeface="Comic Sans MS"/>
              </a:rPr>
              <a:t>Secondary protein structures occur when protein chains coil or fo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When protein chains called polypeptides join together, the tertiary structure fo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In the watery environment of a cell, proteins become globular in their quaternary struc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812"/>
                </a:solidFill>
                <a:latin typeface="Arial"/>
              </a:rPr>
              <a:t>4 Main Groups-Protein Stru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87" t="781" r="11750" b="8986"/>
          <a:stretch/>
        </p:blipFill>
        <p:spPr>
          <a:xfrm>
            <a:off x="1042920" y="1268280"/>
            <a:ext cx="7078680" cy="4530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787" t="781" r="11750" b="8986"/>
          <a:stretch/>
        </p:blipFill>
        <p:spPr>
          <a:xfrm>
            <a:off x="1042920" y="1268280"/>
            <a:ext cx="7078680" cy="4530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1640" y="3141720"/>
            <a:ext cx="1140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50920" y="2852280"/>
            <a:ext cx="0" cy="289080"/>
          </a:xfrm>
          <a:prstGeom prst="line">
            <a:avLst/>
          </a:prstGeom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24720" y="4869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a) Prim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2920" y="407664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00360" y="3933360"/>
            <a:ext cx="360360" cy="142920"/>
          </a:xfrm>
          <a:prstGeom prst="line">
            <a:avLst/>
          </a:prstGeom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4920" y="4581360"/>
            <a:ext cx="113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ha helix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907920"/>
            <a:ext cx="2081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b) Second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7120" y="1052640"/>
            <a:ext cx="1329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ted shee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3141720"/>
            <a:ext cx="1708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) Terti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2880" y="5734080"/>
            <a:ext cx="300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d) Quatern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3120" y="2565360"/>
            <a:ext cx="1506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ingle subunit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155736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4360" y="1773000"/>
            <a:ext cx="360360" cy="142920"/>
          </a:xfrm>
          <a:prstGeom prst="line">
            <a:avLst/>
          </a:prstGeom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Types of Amino Ac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Nonessential – body can make them from other amino acids (12 of the 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Essential – get from foods (8 of the 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7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Structure of Amino Aci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Amino acids have a central carbon with 4 things bonded to 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947" t="10331" r="2665" b="14300"/>
          <a:stretch/>
        </p:blipFill>
        <p:spPr>
          <a:xfrm>
            <a:off x="4932360" y="1052640"/>
            <a:ext cx="3511440" cy="453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3500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Amino group-NH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221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Carboxyl group-COO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50133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Hydrogen-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587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Side group-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126828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26828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boxy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8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4581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de grou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58053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ucine -hydrophobi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5373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ine-hydrophilli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Linking Amino Ac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1812"/>
                </a:solidFill>
                <a:latin typeface="Verdana"/>
              </a:rPr>
              <a:t>Cells link amino acids together to make protein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1148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Peptide bonds form to hold the amino acids togeth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256" t="9338" r="7419" b="8345"/>
          <a:stretch/>
        </p:blipFill>
        <p:spPr>
          <a:xfrm>
            <a:off x="4716360" y="105264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859280" y="32130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hydration Synthe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0" y="609300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ptide Bo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tein Denatura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Comic Sans MS"/>
              </a:rPr>
              <a:t>Changes in temperature &amp; pH can denature (unfold) a protein so it no longer works – can never return to its original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3068640"/>
            <a:ext cx="3097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Cooking </a:t>
            </a: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denatures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protein in eg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3280" y="5373720"/>
            <a:ext cx="394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2d1e"/>
                </a:solidFill>
                <a:latin typeface="Verdana"/>
              </a:rPr>
              <a:t>Milk protein separates into curds &amp; whey when it denatu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rotein Digestion &amp; Absor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1812"/>
                </a:solidFill>
                <a:latin typeface="Comic Sans MS"/>
              </a:rPr>
              <a:t>Proteins are crushed and moistened in the mou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1812"/>
                </a:solidFill>
                <a:latin typeface="Comic Sans MS"/>
              </a:rPr>
              <a:t>Partial breakdown in the stomach. Hydrochloric acid denatures each protein’s strands – broken into polypeptides and amino ac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1812"/>
                </a:solidFill>
                <a:latin typeface="Comic Sans MS"/>
              </a:rPr>
              <a:t>Pancreatic &amp; intestinal enzymes split these polypeptides to oligo-, tri-, and dipept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rotein Digestion &amp; Absor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1812"/>
                </a:solidFill>
                <a:latin typeface="Comic Sans MS"/>
              </a:rPr>
              <a:t>In the small intestine polypeptides are broken into peptide chains and amino ac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1812"/>
                </a:solidFill>
                <a:latin typeface="Comic Sans MS"/>
              </a:rPr>
              <a:t>Specific carriers transport amino acids into the intestinal cells where they are used for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1812"/>
                </a:solidFill>
                <a:latin typeface="Comic Sans MS"/>
              </a:rPr>
              <a:t>Those not used by the intestinal cells are transported across the cell membrane into the blood stre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Energy yielding nutrients that contain nitrogen, carbon, hydrogen, and oxyg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Multiple functions -  growth and maintenance of body tiss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4kcal/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When used to provide energy they can not be used for any other purpose (ie: building cell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2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ROTEINS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Used to make important compounds (ie: enzymes, hormones, and antibodi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Building blocks of protein molecules are called </a:t>
            </a:r>
            <a:r>
              <a:rPr b="1" lang="en-CA" sz="2400" spc="-1" strike="noStrike" u="sng">
                <a:solidFill>
                  <a:srgbClr val="241812"/>
                </a:solidFill>
                <a:uFillTx/>
                <a:latin typeface="Verdana"/>
              </a:rPr>
              <a:t>amino aci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418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compounds with an </a:t>
            </a:r>
            <a:r>
              <a:rPr b="1" lang="en-CA" sz="2400" spc="-1" strike="noStrike" u="sng">
                <a:solidFill>
                  <a:srgbClr val="006666"/>
                </a:solidFill>
                <a:uFillTx/>
                <a:latin typeface="Verdana"/>
              </a:rPr>
              <a:t>amino group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06666"/>
                </a:solidFill>
                <a:latin typeface="Verdana"/>
              </a:rPr>
              <a:t>(-NH</a:t>
            </a:r>
            <a:r>
              <a:rPr b="1" lang="en-CA" sz="2400" spc="-1" strike="noStrike" baseline="-25000">
                <a:solidFill>
                  <a:srgbClr val="006666"/>
                </a:solidFill>
                <a:latin typeface="Verdana"/>
              </a:rPr>
              <a:t>2</a:t>
            </a:r>
            <a:r>
              <a:rPr b="1" lang="en-CA" sz="2400" spc="-1" strike="noStrike">
                <a:solidFill>
                  <a:srgbClr val="006666"/>
                </a:solidFill>
                <a:latin typeface="Verdana"/>
              </a:rPr>
              <a:t>)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 on one end and a </a:t>
            </a:r>
            <a:r>
              <a:rPr b="1" lang="en-CA" sz="2400" spc="-1" strike="noStrike" u="sng">
                <a:solidFill>
                  <a:srgbClr val="006666"/>
                </a:solidFill>
                <a:uFillTx/>
                <a:latin typeface="Verdana"/>
              </a:rPr>
              <a:t>carboxyl group</a:t>
            </a:r>
            <a:r>
              <a:rPr b="1" lang="en-CA" sz="2400" spc="-1" strike="noStrike">
                <a:solidFill>
                  <a:srgbClr val="006666"/>
                </a:solidFill>
                <a:latin typeface="Verdana"/>
              </a:rPr>
              <a:t> (-COOH)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 on the oth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418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the portion that is different is a side chain, known as an </a:t>
            </a:r>
            <a:r>
              <a:rPr b="1" lang="en-CA" sz="2400" spc="-1" strike="noStrike" u="sng">
                <a:solidFill>
                  <a:srgbClr val="006666"/>
                </a:solidFill>
                <a:uFillTx/>
                <a:latin typeface="Verdana"/>
              </a:rPr>
              <a:t>R - grou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8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ROTEINS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Verdana"/>
              </a:rPr>
              <a:t>made of 20 different amino acids 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(aka building blocks)</a:t>
            </a:r>
            <a:r>
              <a:rPr b="1" lang="en-US" sz="3200" spc="-1" strike="noStrike">
                <a:solidFill>
                  <a:srgbClr val="241812"/>
                </a:solidFill>
                <a:latin typeface="Verdana"/>
              </a:rPr>
              <a:t> linked in different ord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Verdana"/>
              </a:rPr>
              <a:t>DNA – storage of instructions for arranging amino acids into different protei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Protein 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High quality protein in meat, poultry, and f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Animal foods are sources of complete protei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Protein provided by plant sources is of lower qual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Plants are sources of incomplete proteins – missing or short in essential amino ac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Types of Prote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Proteins are generally classified as either fibrous or globula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Structural proteins - collagen, silk, microtubu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Regulatory proteins (hormones) - insulin, growth hormon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Contractile proteins - Actin, myosin, dynei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Transport proteins - hemoglobin, myoglob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Types of Proteins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Storage proteins - egg white, seed prote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Protective proteins – antibod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Membrane proteins - membrane-transport, channel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Enzymes - most proteins ending in -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brous Protei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ka scleroprotei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und in anim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ually used to construct connective tissues, tendons, bone and muscle fi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lobular Protei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heroprotei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st known is hemoglob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 like enzymes, messengers and transpor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Primary Protein Structu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3827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The primary structure is the specific sequence of amino acids in a prote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767" t="3388" r="2940" b="3795"/>
          <a:stretch/>
        </p:blipFill>
        <p:spPr>
          <a:xfrm>
            <a:off x="4262400" y="1219320"/>
            <a:ext cx="488160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40000" y="573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Amino Ac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92360" y="4653000"/>
            <a:ext cx="1905120" cy="990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56:02Z</dcterms:created>
  <dc:creator>MattJodi</dc:creator>
  <dc:description/>
  <dc:language>en-US</dc:language>
  <cp:lastModifiedBy>nbdoe</cp:lastModifiedBy>
  <dcterms:modified xsi:type="dcterms:W3CDTF">2008-04-10T11:04:34Z</dcterms:modified>
  <cp:revision>16</cp:revision>
  <dc:subject/>
  <dc:title>PROTEINS</dc:title>
</cp:coreProperties>
</file>